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620B0-932C-49C0-9B27-24EAE4BC4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CC5F4-ECB7-4944-A8C0-5455C9546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59B89-FD49-4DB1-BCD9-6FFD42F30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B4FEE-5986-4D69-9679-5AC6A6800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8A950-1361-496A-A925-583A29CD6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5BF21-F823-425F-97D8-2F78BE058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021F1-BB53-49E2-B8BA-351AF0F33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F818B-990F-47D2-AE35-85FB6D3E7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3A9A6-75A8-48A6-930C-63BCDB149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9D55F-A989-4B3F-B378-1202E6141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DC4A8-4B3D-436C-B6FB-92B62FCE3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F06D7-9AB0-4495-BCCC-A6C823A80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E6E77-B014-4E7E-B6F0-CA2248A74E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Petr Kotouš – „Informace – cenný zdroj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09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Asociace poradenských informačních středisek (APIS)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Národní 25, Praha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www.apis-os.cz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apis@apis-os.c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apis_barva" descr=""/>
          <p:cNvPicPr/>
          <p:nvPr/>
        </p:nvPicPr>
        <p:blipFill>
          <a:blip r:embed="rId1"/>
          <a:stretch/>
        </p:blipFill>
        <p:spPr>
          <a:xfrm>
            <a:off x="3429000" y="2362320"/>
            <a:ext cx="2071800" cy="8017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905120" y="5867280"/>
            <a:ext cx="571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Pozn. tuto prezentaci lze nalézt na adrese www.sweb.cz/kotous.pet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apis_barva" descr=""/>
          <p:cNvPicPr/>
          <p:nvPr/>
        </p:nvPicPr>
        <p:blipFill>
          <a:blip r:embed="rId1"/>
          <a:stretch/>
        </p:blipFill>
        <p:spPr>
          <a:xfrm>
            <a:off x="6705720" y="152280"/>
            <a:ext cx="2071440" cy="8017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9907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1295280"/>
            <a:ext cx="86868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04920" y="1143000"/>
            <a:ext cx="8534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04920" y="1371600"/>
            <a:ext cx="8610480" cy="565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Corporate identity: množství historek o bolestných změnách názvu. Všichni používají název a logo (překvapivě…), nepříliš velká pozornost věnována jednotnému grafickému stylu či firemním barvám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Vnitřní PR: nejdůležitějším nástrojem motivace zaměstnanců je udržování dobrých vztahů na pracovišt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Prostředky PR: používají prakticky všechny uvedené. Nejdůležitější je Internet a výroční zpráva. Méně se používají akc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Celková spokojenost se svými PR. Není problém s novináři. Problémem je pociťovaná neschopnost propojit užitečnost výsledků činnosti organizace s požadavkem dárců na rychlý a efektní výslede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Největší potíže PR neziskových organizací obecně: nedostatek marketingového myšlení, málo kapacity na PR, podcenění P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Otázka: Proč jsou vaše PR taková, jaká jsou?“ Odpověď: „Naše PR jsou taková, jak nám dovoluje prostředí, ve kterém se pohybujeme.“  Nedostatek prostředků – zabraňuje tomu, aby se neziskové organizace pro samé PR aktivity přestaly věnovat své činnosti (</a:t>
            </a: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„ </a:t>
            </a:r>
            <a:r>
              <a:rPr b="0" lang="cs-CZ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A mo</a:t>
            </a: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lang="cs-CZ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ná u n</a:t>
            </a: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ě</a:t>
            </a:r>
            <a:r>
              <a:rPr b="0" lang="cs-CZ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kterých hrozí nebezpe</a:t>
            </a: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čí</a:t>
            </a:r>
            <a:r>
              <a:rPr b="0" lang="cs-CZ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, </a:t>
            </a: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lang="cs-CZ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e se všechny ty marketingové strategie, PR a fundraising a psaní projektů odtrhne od reality, od poslání a od klienta, a bude tu p</a:t>
            </a: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ů</a:t>
            </a:r>
            <a:r>
              <a:rPr b="0" lang="cs-CZ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sobit několik velkých neziskovek, které budou produkovat spoustu kvalitních výro</a:t>
            </a: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0" lang="cs-CZ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ních zpráv a nebudou blízko k tomu, co  by m</a:t>
            </a: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ě</a:t>
            </a:r>
            <a:r>
              <a:rPr b="0" lang="cs-CZ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ly d</a:t>
            </a: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ě</a:t>
            </a:r>
            <a:r>
              <a:rPr b="0" lang="cs-CZ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lat.</a:t>
            </a: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apis_barva" descr=""/>
          <p:cNvPicPr/>
          <p:nvPr/>
        </p:nvPicPr>
        <p:blipFill>
          <a:blip r:embed="rId1"/>
          <a:stretch/>
        </p:blipFill>
        <p:spPr>
          <a:xfrm>
            <a:off x="6705720" y="152280"/>
            <a:ext cx="2071440" cy="80172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457200" y="1066680"/>
            <a:ext cx="8153280" cy="533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Na závěr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Charakteristickým motiv PR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zkoumaných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organizací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um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ěř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enost“ jejich PR.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Tři výrok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00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„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Naše PR jsou taková, jaká nám dovoluje prostředí, v němž se pohybujeme.“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00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„…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slovo um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ě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ní je nebezpe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né pou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ívat, ale PR, jako všechno v život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ě,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je um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ě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ní. Já bych hrozn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ě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rád, abychom všichni zvládli všechny ty technické nezbytné v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ě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ci, ale abychom nezapomínali,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e to je trochu um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ě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ní…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 pak kdy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se do toho dostane ta správná š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ť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áva, kdy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to chytne n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ě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jaký šmrnc, tak je to pak zá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itek, pak to není,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e nám n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ě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kdo dává n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ě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jaké granty a tak, ale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e nás to také baví a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e to, co jste léta potil, se také n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ě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kde zhodnocuje a je to bezva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 není chápáno jako investice, přitom to investice je.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“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00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00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apis_barva" descr=""/>
          <p:cNvPicPr/>
          <p:nvPr/>
        </p:nvPicPr>
        <p:blipFill>
          <a:blip r:embed="rId1"/>
          <a:stretch/>
        </p:blipFill>
        <p:spPr>
          <a:xfrm>
            <a:off x="6705720" y="152280"/>
            <a:ext cx="2071440" cy="8017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838080" y="1600200"/>
            <a:ext cx="7467840" cy="28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va druhy informací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, které potřebujete ke své práci – lov, sběr, služby servisních středisek pro N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, které o své činnosti dáváte svému okolí – public re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apis_barva" descr=""/>
          <p:cNvPicPr/>
          <p:nvPr/>
        </p:nvPicPr>
        <p:blipFill>
          <a:blip r:embed="rId1"/>
          <a:stretch/>
        </p:blipFill>
        <p:spPr>
          <a:xfrm>
            <a:off x="6705720" y="152280"/>
            <a:ext cx="2071440" cy="8017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457200" y="99072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d. 1) Co je APIS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1905120"/>
            <a:ext cx="4267440" cy="490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APIS sdružuj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EkoCentrum Br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Informační centrum neziskových organizací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Občanské poradenské středisk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INKANO (Písek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Piafa (Vyškov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Společnost pro Jizerské hory (Libere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Vita (Ostrav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Mapa_CR" descr=""/>
          <p:cNvPicPr/>
          <p:nvPr/>
        </p:nvPicPr>
        <p:blipFill>
          <a:blip r:embed="rId2"/>
          <a:stretch/>
        </p:blipFill>
        <p:spPr>
          <a:xfrm>
            <a:off x="4724280" y="2057400"/>
            <a:ext cx="3956040" cy="239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apis_barva" descr=""/>
          <p:cNvPicPr/>
          <p:nvPr/>
        </p:nvPicPr>
        <p:blipFill>
          <a:blip r:embed="rId1"/>
          <a:stretch/>
        </p:blipFill>
        <p:spPr>
          <a:xfrm>
            <a:off x="6705720" y="152280"/>
            <a:ext cx="2071440" cy="8017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762120" y="106668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ak to funguj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895480" y="1905120"/>
            <a:ext cx="4229280" cy="914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00400" y="3429000"/>
            <a:ext cx="3886200" cy="641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Členské organizace APIS – regionální informační poradenská středisk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724280" y="4495680"/>
            <a:ext cx="2210040" cy="82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lienti: neziskové organizace, státní správa, školy, dobrovolníci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181480" y="42670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562720" y="42670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42670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447920" y="4114800"/>
            <a:ext cx="2514600" cy="914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752480" y="4343400"/>
            <a:ext cx="18288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dy poskytování služ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962520" y="4343400"/>
            <a:ext cx="914400" cy="114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990720" y="2971800"/>
            <a:ext cx="1485720" cy="571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ordinační centrum AP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981080" y="3525840"/>
            <a:ext cx="571680" cy="571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2139840"/>
            <a:ext cx="37720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užby pro členy APIS: společné projekty, vzdělávání, organizační služb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514600" y="304812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14600" y="32004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514600" y="335268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2209680" y="249408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610160" y="2847960"/>
            <a:ext cx="38160" cy="58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7240" y="1557360"/>
            <a:ext cx="9144000" cy="35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7240" y="15573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apis_barva" descr=""/>
          <p:cNvPicPr/>
          <p:nvPr/>
        </p:nvPicPr>
        <p:blipFill>
          <a:blip r:embed="rId1"/>
          <a:stretch/>
        </p:blipFill>
        <p:spPr>
          <a:xfrm>
            <a:off x="6705720" y="152280"/>
            <a:ext cx="2071440" cy="8017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990720" y="1600200"/>
            <a:ext cx="6858000" cy="433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Public relations jsou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00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aloženy na faktu, že si lidé vytvářejí názory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001"/>
              </a:spcBef>
              <a:buClr>
                <a:srgbClr val="000000"/>
              </a:buClr>
              <a:buFont typeface="Times New Roman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aloženy na faktu, že toto vytváření názorů někdo nechce nechat náhodě a že ho chce cíleně ovlivňovat,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001"/>
              </a:spcBef>
              <a:buClr>
                <a:srgbClr val="000000"/>
              </a:buClr>
              <a:buFont typeface="Times New Roman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působy, jak upřít na něco pozornost nebo pozornost od něčeho odvés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001"/>
              </a:spcBef>
              <a:buClr>
                <a:srgbClr val="000000"/>
              </a:buClr>
              <a:buFont typeface="Times New Roman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ochu vědou, částečně uměním a hodně selským rozumem, jak chápat a ovlivňovat názory druhých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001"/>
              </a:spcBef>
              <a:buClr>
                <a:srgbClr val="000000"/>
              </a:buClr>
              <a:buFont typeface="Times New Roman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ecným termínem, který je vhodný pro zastřešení řady dílčích činností v oblasti firemní komunikace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001"/>
              </a:spcBef>
              <a:buClr>
                <a:srgbClr val="000000"/>
              </a:buClr>
              <a:buFont typeface="Times New Roman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částí managementu a strategického řízení firmy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001"/>
              </a:spcBef>
              <a:buClr>
                <a:srgbClr val="000000"/>
              </a:buClr>
              <a:buFont typeface="Times New Roman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reativní prací s pravdivými informacemi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Vadim Petro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533520"/>
            <a:ext cx="579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. 2) Public relations – „veřejné vztahy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apis_barva" descr=""/>
          <p:cNvPicPr/>
          <p:nvPr/>
        </p:nvPicPr>
        <p:blipFill>
          <a:blip r:embed="rId1"/>
          <a:stretch/>
        </p:blipFill>
        <p:spPr>
          <a:xfrm>
            <a:off x="6705720" y="152280"/>
            <a:ext cx="2071440" cy="80172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914400" y="1295280"/>
            <a:ext cx="7543800" cy="48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Komunikační mix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reklama…(„reklamare“ = znovu křičeti, vychvalovat), rozdíl reklama a PR – já sám říkám, že jsem dobrý x ostatní o mně říkají, že jsem dobrý…Olivero Toscan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osobní prodej… osobní kontakt – sbírková ak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přímý marketing…neosobní formy komunikace (časopisy, prospekty) + osobnější (telemarketing, Internet, direct mai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podpora prodeje… akce v místě prodeje…s nadsázkou to může být např. nátlaková ak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sponzoring…týká se druhé, „ziskové“ strany – zakoupení možnosti spojení svého jména s ušlechtilou aktivitou…(součást „public affairs“ firem – firemní nadace, vlastní projekty - Av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public relations…propojení všeho předchozíh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apis_barva" descr=""/>
          <p:cNvPicPr/>
          <p:nvPr/>
        </p:nvPicPr>
        <p:blipFill>
          <a:blip r:embed="rId1"/>
          <a:stretch/>
        </p:blipFill>
        <p:spPr>
          <a:xfrm>
            <a:off x="6705720" y="152280"/>
            <a:ext cx="2071440" cy="8017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914400"/>
            <a:ext cx="7772400" cy="41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íle PR neziskových organizací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Získat podporu veřejnosti pro své poslání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Získat příznivé klima pro fundraisingové kampaně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Rozšířit a udržet účast dobrovolníků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(Čepelka O.: Práce s veřejností v nepodnikatelském sektoru, Omega, Liberec, 1997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Prostředky PR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(pozn.: všechny je předjímá „corporate identity“)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Tištěné prostředky (plakát, leták, hromadný dopis, výroční zpráva atd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Prostředky masové komunikace (tištěná média, elektronická médi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Akce (happeningy, blokád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657600" y="5562720"/>
            <a:ext cx="4419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lik teorie, nyní jak je tomu v praxi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apis_barva" descr=""/>
          <p:cNvPicPr/>
          <p:nvPr/>
        </p:nvPicPr>
        <p:blipFill>
          <a:blip r:embed="rId1"/>
          <a:stretch/>
        </p:blipFill>
        <p:spPr>
          <a:xfrm>
            <a:off x="6705720" y="152280"/>
            <a:ext cx="2071440" cy="8017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0" y="1295280"/>
            <a:ext cx="883908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„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bčanský sektor v ČR. Kvalitativní výzkum public relations vybraných organizací.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rigorózní prá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14400" y="2286000"/>
            <a:ext cx="7848720" cy="13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říjen, listopad 2003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vzorek sedmi členských organizací APIS, vedoucí pracovníci (výkonní ředitelé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metoda: rozhovor nad strukturovaným dotazníkem (17 okruhů), nahrán na diktafon, doslovný přepis, interpretace jednotlivých okruhů, celková interpret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85800" y="4267080"/>
            <a:ext cx="746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09480" y="4343400"/>
            <a:ext cx="81536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orie a hypotézy výzkumu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:   nebyly předem zformulovány – shrnovaly a interpretovaly se výpovědi respondentů podle jednotlivých okruhů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apis_barva" descr=""/>
          <p:cNvPicPr/>
          <p:nvPr/>
        </p:nvPicPr>
        <p:blipFill>
          <a:blip r:embed="rId1"/>
          <a:stretch/>
        </p:blipFill>
        <p:spPr>
          <a:xfrm>
            <a:off x="6705720" y="152280"/>
            <a:ext cx="2071440" cy="80172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914400" y="45720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ýsledk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09480" y="1371600"/>
            <a:ext cx="8382240" cy="50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čtyři občanská sdružení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(Vita, EkoCentrum, Piafa, INKANO) a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tři obecně prospěšné společnosti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(ICN, OPS, SPJH)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předmět činnosti: informační a poradenské služby pro NNO, někdy další činnost (ekologická, zdravotní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financování: mizivé zapojení firemních dárců.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Problémem je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nedostatek pracovník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ů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ochotných v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ě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novat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se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firemnímu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i individuálnímu fundraisingu a poci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ť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ovaná neuchopitelnost a nezajímavost servisních organizací v o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ích p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ř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ípadných dárc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ů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PR má na starosti hlavně ředitel, v menší míře vedoucí projektů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plánování PR: není dlouhodobé, pokud je, pak velmi rámcové. Neexistují konkrétní operační plány, které by navazovaly na strategický plán. PR spíše ad hoc na základě projektů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cíl PR: být chápán jako nestranný zdroj informací. Nejčastěji uváděná cílová skupina komunikace: příjemci  služeb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spolupráce s PR profesionály – není (s výjimkou ICN), nikdo po ní nijak zvláště netouží.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Média: nadstandardní, osobní vztahy s novináři. Nejdůležitější médium – Čro, regionální tiskoviny. Různé typy mediálních výstupů. Oslovování novinářů, zájem novinářů o informac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9T14:22:06Z</dcterms:created>
  <dc:creator>Petr Kotouš</dc:creator>
  <dc:description/>
  <dc:language>en-US</dc:language>
  <cp:lastModifiedBy>Petr Kotouš</cp:lastModifiedBy>
  <dcterms:modified xsi:type="dcterms:W3CDTF">2004-04-19T17:36:53Z</dcterms:modified>
  <cp:revision>6</cp:revision>
  <dc:subject/>
  <dc:title>Petr Kotouš – „Informace – cenný zdroj“</dc:title>
</cp:coreProperties>
</file>