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E54-A9F6-4232-A0CB-776AF1D8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CE6-F1DD-47CF-A71E-01B77185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AF4-C3AC-4C0D-A5E8-4657CA74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654-5E4F-4F06-B7B8-A0A5C4EE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AF4-A427-4784-8917-6936C5CD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5D8-2772-4908-A58A-B5DF9347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15B-0700-4C13-8545-74ACC26F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5F4-9394-4CE0-B5A6-97B0ED3C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DD8-7BD4-4656-AF67-3EC445DA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C19-A644-4498-BEF7-F065F3B3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2CE-267B-4DEA-A749-13634BCD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EF6-1E1B-49B9-B61A-7808F00F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268A-E944-4051-B211-4DF0439C5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etr Kotouš – „Informace – cenný zdroj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sociace poradenských informačních středisek (APIS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rodní 25, Prah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www.apis-os.c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pis@apis-os.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pis_barva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071800" cy="801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05120" y="586728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ozn. tuto prezentaci lze nalézt na adrese www.sweb.cz/kotous.pe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95280"/>
            <a:ext cx="868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1430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71600"/>
            <a:ext cx="8610480" cy="56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orporate identity: množství historek o bolestných změnách názvu. Všichni používají název a logo (překvapivě…), nepříliš velká pozornost věnována jednotnému grafickému stylu či firemním barvá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nitřní PR: nejdůležitějším nástrojem motivace zaměstnanců je udržování dobrých vztahů na pracoviš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ostředky PR: používají prakticky všechny uvedené. Nejdůležitější je Internet a výroční zpráva. Méně se používají ak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elková spokojenost se svými PR. Není problém s novináři. Problémem je pociťovaná neschopnost propojit užitečnost výsledků činnosti organizace s požadavkem dárců na rychlý a efektní výslede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jvětší potíže PR neziskových organizací obecně: nedostatek marketingového myšlení, málo kapacity na PR, podcenění P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tázka: Proč jsou vaše PR taková, jaká jsou?“ Odpověď: „Naše PR jsou taková, jak nám dovoluje prostředí, ve kterém se pohybujeme.“  Nedostatek prostředků – zabraňuje tomu, aby se neziskové organizace pro samé PR aktivity přestaly věnovat své činnosti (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„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 mo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á u n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kterých hrozí nebezpe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e se všechny ty marketingové strategie, PR a fundraising a psaní projektů odtrhne od reality, od poslání a od klienta, a bude tu p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ů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obit několik velkých neziskovek, které budou produkovat spoustu kvalitních výro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ích zpráv a nebudou blízko k tomu, co  by m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y d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at.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1066680"/>
            <a:ext cx="81532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 závě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rakteristickým motiv PR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koumaných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ganizací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u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ř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nost“ jejich PR.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ři výrok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še PR jsou taková, jaká nám dovoluje prostředí, v němž se pohybujeme.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„…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lovo u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í je nebezp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é pou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ívat, ale PR, jako všechno v život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,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je u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í. Já bych hroz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rád, abychom všichni zvládli všechny ty technické nezbytné v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, ale abychom nezapomínali,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 to je trochu u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í…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 pak kdy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e do toho dostane ta správná š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ť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áva, kdy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to chytne 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jaký šmrnc, tak je to pak zá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tek, pak to není,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 nám 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kdo dává 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jaké granty a tak, ale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 nás to také baví a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 to, co jste léta potil, se také 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kde zhodnocuje a je to bezv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 není chápáno jako investice, přitom to investice je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1600200"/>
            <a:ext cx="74678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va druhy informac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, které potřebujete ke své práci – lov, sběr, služby servisních středisek pro 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, které o své činnosti dáváte svému okolí – public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990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d. 1) Co je AP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905120"/>
            <a:ext cx="426744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PIS sdružu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koCentrum B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formační centrum neziskových organizac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čanské poradenské středis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KANO (Píse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iafa (Vyško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olečnost pro Jizerské hory (Liber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ita (Ostra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apa_CR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395604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1066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to fungu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1905120"/>
            <a:ext cx="42292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3429000"/>
            <a:ext cx="38862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enské organizace APIS – regionální informační poradenská středis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4495680"/>
            <a:ext cx="2210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i: neziskové organizace, státní správa, školy, dobrovolníc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4267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267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4267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114800"/>
            <a:ext cx="25146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434340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y poskytování služ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962520" y="4343400"/>
            <a:ext cx="91440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971800"/>
            <a:ext cx="14857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ordinační centrum AP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525840"/>
            <a:ext cx="5716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2139840"/>
            <a:ext cx="3772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užby pro členy APIS: společné projekty, vzdělávání, organizační služ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048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32004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3352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209680" y="249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10160" y="2847960"/>
            <a:ext cx="3816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240" y="1557360"/>
            <a:ext cx="91440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240" y="155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90720" y="1600200"/>
            <a:ext cx="6858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ublic relations jso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loženy na faktu, že si lidé vytvářejí názor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loženy na faktu, že toto vytváření názorů někdo nechce nechat náhodě a že ho chce cíleně ovlivňovat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působy, jak upřít na něco pozornost nebo pozornost od něčeho odvés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chu vědou, částečně uměním a hodně selským rozumem, jak chápat a ovlivňovat názory druhých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ecným termínem, který je vhodný pro zastřešení řady dílčích činností v oblasti firemní komunikac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ástí managementu a strategického řízení firm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eativní prací s pravdivými informacemi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adim Petr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5335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. 2) Public relations – „veřejné vztahy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14400" y="1295280"/>
            <a:ext cx="754380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munikační mi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klama…(„reklamare“ = znovu křičeti, vychvalovat), rozdíl reklama a PR – já sám říkám, že jsem dobrý x ostatní o mně říkají, že jsem dobrý…Olivero Tosc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sobní prodej… osobní kontakt – sbírková ak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ímý marketing…neosobní formy komunikace (časopisy, prospekty) + osobnější (telemarketing, Internet, direct ma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dpora prodeje… akce v místě prodeje…s nadsázkou to může být např. nátlaková ak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ponzoring…týká se druhé, „ziskové“ strany – zakoupení možnosti spojení svého jména s ušlechtilou aktivitou…(součást „public affairs“ firem – firemní nadace, vlastní projekty - Av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ublic relations…propojení všeho předchozíh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914400"/>
            <a:ext cx="777240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íle PR neziskových organizac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ískat podporu veřejnosti pro své poslán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ískat příznivé klima pro fundraisingové kampan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zšířit a udržet účast dobrovolník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(Čepelka O.: Práce s veřejností v nepodnikatelském sektoru, Omega, Liberec, 199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středky PR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pozn.: všechny je předjímá „corporate identity“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ištěné prostředky (plakát, leták, hromadný dopis, výroční zpráva at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ostředky masové komunikace (tištěná média, elektronická méd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kce (happeningy, blokád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7600" y="55627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lik teorie, nyní jak je tomu v prax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295280"/>
            <a:ext cx="8839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čanský sektor v ČR. Kvalitativní výzkum public relations vybraných organizací.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igorózní prá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286000"/>
            <a:ext cx="78487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říjen, listopad 2003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zorek sedmi členských organizací APIS, vedoucí pracovníci (výkonní ředitelé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etoda: rozhovor nad strukturovaným dotazníkem (17 okruhů), nahrán na diktafon, doslovný přepis, interpretace jednotlivých okruhů, celková interpret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2670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34340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orie a hypotézy výzkum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  nebyly předem zformulovány – shrnovaly a interpretovaly se výpovědi respondentů podle jednotlivých okruhů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14400" y="457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sledk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371600"/>
            <a:ext cx="838224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tyři občanská sdružení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Vita, EkoCentrum, Piafa, INKANO) a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ři obecně prospěšné společnosti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(ICN, OPS, SPJH)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edmět činnosti: informační a poradenské služby pro NNO, někdy další činnost (ekologická, zdravotní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inancování: mizivé zapojení firemních dárců.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blémem j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edostatek pracovník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ů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ochotných v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ovat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firemnímu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 individuálnímu fundraisingu a poci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ť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vaná neuchopitelnost a nezajímavost servisních organizací v o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ích p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ípadných dárc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ů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 má na starosti hlavně ředitel, v menší míře vedoucí projekt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lánování PR: není dlouhodobé, pokud je, pak velmi rámcové. Neexistují konkrétní operační plány, které by navazovaly na strategický plán. PR spíše ad hoc na základě projektů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íl PR: být chápán jako nestranný zdroj informací. Nejčastěji uváděná cílová skupina komunikace: příjemci  služe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polupráce s PR profesionály – není (s výjimkou ICN), nikdo po ní nijak zvláště netouží.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édia: nadstandardní, osobní vztahy s novináři. Nejdůležitější médium – Čro, regionální tiskoviny. Různé typy mediálních výstupů. Oslovování novinářů, zájem novinářů o inform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14:22:06Z</dcterms:created>
  <dc:creator>Petr Kotouš</dc:creator>
  <dc:description/>
  <dc:language>en-US</dc:language>
  <cp:lastModifiedBy>Petr Kotouš</cp:lastModifiedBy>
  <dcterms:modified xsi:type="dcterms:W3CDTF">2004-04-19T17:36:53Z</dcterms:modified>
  <cp:revision>6</cp:revision>
  <dc:subject/>
  <dc:title>Petr Kotouš – „Informace – cenný zdroj“</dc:title>
</cp:coreProperties>
</file>